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9F8-0330-409D-8101-081013A5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FBA-0756-42A7-861B-1585C64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31D-CAFA-4821-804E-8EC0979F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E4D-4F06-4C51-88C4-5B45079E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CBB-739E-4D46-AF92-266BA48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77C-5391-4D81-9550-17C42C7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3F9-B6E5-4C35-961F-CF0A6D71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B49-B7DE-4E5B-A6E8-B82AF2B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90A-3A71-4501-A5F3-4A544BA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13D-32DF-4587-ABFB-626CCD3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544-E782-4228-9080-01B0A82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9C5-B86F-4C46-A7A9-C6211CB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1AD1-F9FB-4547-BDD0-EDF38E30FC1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6F8A-F675-4C23-8596-3CBEDBF28DF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nitin.com/grademark3/index.asp?svr=13&amp;session-id=b5ea6afd28c2374205cd3105061674d0&amp;r=1256572462291&amp;oid=97644469&amp;lang=en_u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1960" y="4143240"/>
            <a:ext cx="492912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ff"/>
                </a:solidFill>
                <a:latin typeface="Calibri"/>
              </a:rPr>
              <a:t>Turnitin</a:t>
            </a:r>
            <a:br>
              <a:rPr sz="5400"/>
            </a:b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Emerging Technology </a:t>
            </a:r>
            <a:br>
              <a:rPr sz="3400"/>
            </a:br>
            <a:r>
              <a:rPr b="1" lang="fr-CA" sz="3400" spc="-1" strike="noStrike">
                <a:solidFill>
                  <a:srgbClr val="ffffff"/>
                </a:solidFill>
                <a:latin typeface="Calibri"/>
              </a:rPr>
              <a:t>Amy Shad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Picture 2.png"/>
          <p:cNvPicPr/>
          <p:nvPr/>
        </p:nvPicPr>
        <p:blipFill>
          <a:blip r:embed="rId2"/>
          <a:srcRect l="0" t="-130942" r="0" b="-13094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9" descr="Picture 3.png"/>
          <p:cNvPicPr/>
          <p:nvPr/>
        </p:nvPicPr>
        <p:blipFill>
          <a:blip r:embed="rId2"/>
          <a:srcRect l="-6820" t="0" r="-682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9" descr="Picture 3.png"/>
          <p:cNvPicPr/>
          <p:nvPr/>
        </p:nvPicPr>
        <p:blipFill>
          <a:blip r:embed="rId2"/>
          <a:stretch/>
        </p:blipFill>
        <p:spPr>
          <a:xfrm>
            <a:off x="457200" y="3139920"/>
            <a:ext cx="82296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9" descr="Picture 3.png"/>
          <p:cNvPicPr/>
          <p:nvPr/>
        </p:nvPicPr>
        <p:blipFill>
          <a:blip r:embed="rId2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9" descr="Picture 3.png"/>
          <p:cNvPicPr/>
          <p:nvPr/>
        </p:nvPicPr>
        <p:blipFill>
          <a:blip r:embed="rId2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urni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Picture 3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752480"/>
            <a:ext cx="7467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0:27:17Z</dcterms:created>
  <dc:creator>Admin</dc:creator>
  <dc:description/>
  <dc:language>en-US</dc:language>
  <cp:lastModifiedBy>PA Department of Education Classrooms for the Future</cp:lastModifiedBy>
  <dcterms:modified xsi:type="dcterms:W3CDTF">2009-10-26T22:09:46Z</dcterms:modified>
  <cp:revision>25</cp:revision>
  <dc:subject/>
  <dc:title>PRESENTATION  NAME</dc:title>
</cp:coreProperties>
</file>